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10515600" cy="7315200"/>
  <p:notesSz cx="6858000" cy="9294813"/>
  <p:custShowLst>
    <p:custShow name="Chapter Resources" id="0">
      <p:sldLst>
        <p:sld r:id="rId33"/>
        <p:sld r:id="rId34"/>
        <p:sld r:id="rId35"/>
        <p:sld r:id="rId36"/>
        <p:sld r:id="rId37"/>
        <p:sld r:id="rId38"/>
        <p:sld r:id="rId39"/>
        <p:sld r:id="rId40"/>
        <p:sld r:id="rId4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ED30-80FB-4A4E-AC85-4480F9B16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0B8D-9550-4091-A02C-CD32EF2CB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2D83-75B4-4A3D-A71A-01FE8CB6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65B5-D3B8-455E-B22B-F280AFA6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745-5ECD-4E3A-9626-61C0E4AED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21F6-4C79-493F-BABE-1F303AD68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5476-AD76-4B9F-9864-36AC53CC4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0CA9-8B27-4EF7-9377-0D4AB30B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74E1-B4F3-418C-80BE-4F9F0826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A4DA-1B74-4BF8-9E7C-C85BA106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068C-0B59-4961-B42F-5D7315779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359-71F9-4515-95B7-F9F634DC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671-778C-4242-A039-75ABEBDA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E2C-9969-41E2-AF22-FFD3B847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75F8-CB2A-4614-AE9C-9B78C9FE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81BC-CAA9-4278-A482-03C047718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B98B-2576-4DB5-9864-06D25015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7B27-05C0-44DF-808D-B5E37352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FDD-EEA3-4842-AA0B-9086A2C6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77C-33B3-40EC-8CA8-56DBA799A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12A-6F54-48C6-8CCA-EF20B2A49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E1BB-1806-4604-8003-DA422BDE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5AE-FCEC-4854-B03E-207D11FC2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7FCC-6C79-46BD-AE64-B872BAE2D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6EC7-2858-4550-A53C-D3CAA4224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EC7C-9928-4C7C-AADB-D5DC4EC1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989B-4C9C-4694-AD34-C0ABB62A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2E1-E00E-4CD8-B698-9E6512DC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E8B-D37B-4C6D-8828-985D1BC6E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20D-A7D4-4C37-823E-842055775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E026-0C8E-4988-8ECA-58D9CEFF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EFB-4D13-40FB-A24F-D44BC8427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CED0-3630-47D9-BD11-222894ED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2E33-D29F-499E-B0E4-979C706E6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64E-E646-4DC9-90C6-2FFA96DC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8A88-4836-452A-83D5-9B87B46D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/>
          <p:cNvPicPr/>
          <p:nvPr/>
        </p:nvPicPr>
        <p:blipFill>
          <a:blip r:embed="rId4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20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eologic_time_scale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era.wav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mp/home/.config/libreoffice/4/user/gallery/period.wav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ound016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plate_tectonics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tmp/home/.config/libreoffice/4/user/gallery/spontaneous_generation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tmp/home/.config/libreoffice/4/user/gallery/theory_of_biogenesis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dosymbiont_theor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ssil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mp/home/.config/libreoffice/4/user/gallery/relative_dating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radiometric_dating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790560" y="1967040"/>
            <a:ext cx="88869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geological time 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model that expresses the major geological and biological events in Earth’s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Geologic Tim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790560" y="35845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geologic time scale is divided into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790560" y="472428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E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hanerozoic eon include the Paleozoic, Mesozoic, and Cenozoic 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790560" y="586260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era is divided into one or mor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eri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0481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8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12280" y="5334120"/>
            <a:ext cx="40932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9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220320" y="59436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90560" y="2023920"/>
            <a:ext cx="82011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arly 90 percent of Earth’s entire history, stretching from the formation of Earth to the beginning of the Paleozoic era about 542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90560" y="41911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enriched the atmosphere with oxy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790560" y="191916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cestors of most major animal groups diversified in what scientists call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Pale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790560" y="350532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fe in the oceans continued to evolve at the end of the Cambrian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90560" y="460548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appeared during the Ordovician and Silurian peri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790560" y="56959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emerged in the Devon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9718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785880" y="164772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mass extinction ended the Paleozoic era at the end of the Permian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790560" y="294804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tween 60 and 75 percent of the species alive went extin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Mes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790560" y="2023920"/>
            <a:ext cx="8582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irst appeared late in the Triassic period, an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90560" y="370368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irds evolved from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 *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 of the Jurassic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790560" y="4896000"/>
            <a:ext cx="8582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out 65 million years ago, a meteorite struck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785880" y="3811680"/>
            <a:ext cx="8891640" cy="9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900" spc="-1" strike="noStrike">
                <a:solidFill>
                  <a:srgbClr val="a6000d"/>
                </a:solidFill>
                <a:latin typeface="Arial"/>
                <a:ea typeface="Times New Roman"/>
              </a:rPr>
              <a:t>Plate</a:t>
            </a:r>
            <a:r>
              <a:rPr b="0" lang="en-US" sz="29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0" lang="en-US" sz="2900" spc="-1" strike="noStrike">
                <a:solidFill>
                  <a:srgbClr val="a6000d"/>
                </a:solidFill>
                <a:latin typeface="Arial"/>
                <a:ea typeface="Times New Roman"/>
              </a:rPr>
              <a:t>tectonic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describes the movement of several large plates that make up the surface of Earth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90560" y="5018040"/>
            <a:ext cx="89629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plates, some of which contain continents, move atop a partially molten layer of rock underneath 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ch 14 im 13"/>
          <p:cNvPicPr/>
          <p:nvPr/>
        </p:nvPicPr>
        <p:blipFill>
          <a:blip r:embed="rId1"/>
          <a:stretch/>
        </p:blipFill>
        <p:spPr>
          <a:xfrm>
            <a:off x="1019160" y="1571760"/>
            <a:ext cx="8458200" cy="184284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8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763120" y="43434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3"/>
          <p:cNvSpPr/>
          <p:nvPr/>
        </p:nvSpPr>
        <p:spPr>
          <a:xfrm>
            <a:off x="785880" y="1311120"/>
            <a:ext cx="80532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Cen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790560" y="2021040"/>
            <a:ext cx="88106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mmals became the dominant land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90560" y="2735280"/>
            <a:ext cx="8505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the mass extinction at the end of the Mesozoic era, mammals of all kinds began to divers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785880" y="1311120"/>
            <a:ext cx="8053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Origins: Early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790560" y="1814400"/>
            <a:ext cx="88106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a6000d"/>
                </a:solidFill>
                <a:latin typeface="Arial"/>
                <a:ea typeface="Times New Roman"/>
              </a:rPr>
              <a:t>Spontaneous gen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790560" y="2743200"/>
            <a:ext cx="881064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rancesco Redi, an Italian scientist, tested the idea that flies arose spontaneously from rotting m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0" descr="ch 14 im 15"/>
          <p:cNvPicPr/>
          <p:nvPr/>
        </p:nvPicPr>
        <p:blipFill>
          <a:blip r:embed="rId1"/>
          <a:stretch/>
        </p:blipFill>
        <p:spPr>
          <a:xfrm>
            <a:off x="1957320" y="3700440"/>
            <a:ext cx="6577200" cy="29782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2362320"/>
            <a:ext cx="4129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3"/>
          <p:cNvSpPr/>
          <p:nvPr/>
        </p:nvSpPr>
        <p:spPr>
          <a:xfrm>
            <a:off x="785880" y="1311120"/>
            <a:ext cx="80532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6000d"/>
                </a:solidFill>
                <a:latin typeface="Arial"/>
                <a:ea typeface="Times New Roman"/>
              </a:rPr>
              <a:t>theory of biogen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tates that *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790560" y="2224080"/>
            <a:ext cx="85057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uis Pasteur designed an experiment to show that biogenesis was true even for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3" descr="ch 14  im 16"/>
          <p:cNvPicPr/>
          <p:nvPr/>
        </p:nvPicPr>
        <p:blipFill>
          <a:blip r:embed="rId1"/>
          <a:stretch/>
        </p:blipFill>
        <p:spPr>
          <a:xfrm>
            <a:off x="1371600" y="3154320"/>
            <a:ext cx="7729560" cy="3522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34520" y="1792440"/>
            <a:ext cx="411120" cy="35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785880" y="1311120"/>
            <a:ext cx="80532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Origins: Moder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1246320" y="1981080"/>
            <a:ext cx="85071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organic molecul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246320" y="2643120"/>
            <a:ext cx="7859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primordial soup hypothe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as an early hypothesis about the origin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1246320" y="3786120"/>
            <a:ext cx="7859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Organic molec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uld have been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synthesized from simple rea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246320" y="4938840"/>
            <a:ext cx="78483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UV light from the S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electric discharge in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light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might have been th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primary energy 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8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The Histor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1828800" y="2435400"/>
            <a:ext cx="8050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1835280" y="3170160"/>
            <a:ext cx="7399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3"/>
          <p:cNvSpPr/>
          <p:nvPr/>
        </p:nvSpPr>
        <p:spPr>
          <a:xfrm>
            <a:off x="785880" y="1311120"/>
            <a:ext cx="42433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Stanley Mil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Harold Ur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ere the first to show that simple organic molecules could be made from inorgan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90560" y="3990960"/>
            <a:ext cx="446724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ter, scientists found that hydrogen cyanide could be formed from even simpler molecules in simulated early Earth enviro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ch 14 im 18"/>
          <p:cNvPicPr/>
          <p:nvPr/>
        </p:nvPicPr>
        <p:blipFill>
          <a:blip r:embed="rId1"/>
          <a:stretch/>
        </p:blipFill>
        <p:spPr>
          <a:xfrm>
            <a:off x="5353200" y="1066680"/>
            <a:ext cx="4549680" cy="51278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785880" y="1311120"/>
            <a:ext cx="8663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Making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790560" y="1852560"/>
            <a:ext cx="6296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ife requires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90560" y="2401920"/>
            <a:ext cx="91155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e possible mechanism for the formation of proteins would b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ch 14 im 19"/>
          <p:cNvPicPr/>
          <p:nvPr/>
        </p:nvPicPr>
        <p:blipFill>
          <a:blip r:embed="rId1"/>
          <a:stretch/>
        </p:blipFill>
        <p:spPr>
          <a:xfrm>
            <a:off x="2400480" y="3327480"/>
            <a:ext cx="5671800" cy="33894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Genetic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790560" y="2021040"/>
            <a:ext cx="88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me RNA sequences appear to have changed very little throug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790560" y="3219480"/>
            <a:ext cx="88106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y biologists consider RNA to have been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790560" y="4414680"/>
            <a:ext cx="8810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researchers have proposed that clay crystals could have provided an initial template for RNA re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3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ellular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90560" y="2021040"/>
            <a:ext cx="88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Scientists hypothesize that the first cells were prokaryo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790560" y="3219480"/>
            <a:ext cx="90392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cientists think that modern prokaryotes called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archaea are the closest relatives of Earth’s first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3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hotosynthesizing 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790560" y="2021040"/>
            <a:ext cx="88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ssil evidence of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cyanobac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as been found in rocks as old as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3.5 billion y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762120" y="3276720"/>
            <a:ext cx="90392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Cyanobacte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eventually produced enough oxygen to support the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formation of the ozone lay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785880" y="1311120"/>
            <a:ext cx="8815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The Endosymbiont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90560" y="2014560"/>
            <a:ext cx="9039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cestors of eukaryotic cells lived in association with prokaryotic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790560" y="3205080"/>
            <a:ext cx="8123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lationship between the cells became *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790560" y="5376960"/>
            <a:ext cx="86583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heory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Times New Roman"/>
              </a:rPr>
              <a:t>explains the origin of chloroplasts and mitochondr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Origin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4" descr="ch 14 im 30"/>
          <p:cNvPicPr/>
          <p:nvPr/>
        </p:nvPicPr>
        <p:blipFill>
          <a:blip r:embed="rId1"/>
          <a:stretch/>
        </p:blipFill>
        <p:spPr>
          <a:xfrm>
            <a:off x="685800" y="1474920"/>
            <a:ext cx="9140760" cy="45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Q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508040" y="2849400"/>
            <a:ext cx="74073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dpoles become fr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rfish can grow from a severed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p hay and corn create 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a tiny acorn, an oak can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170000" y="1717560"/>
            <a:ext cx="7059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n example of the theory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ous genera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8"/>
          <p:cNvSpPr/>
          <p:nvPr/>
        </p:nvSpPr>
        <p:spPr>
          <a:xfrm>
            <a:off x="1442880" y="375912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3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Q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1508040" y="2849400"/>
            <a:ext cx="52736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lf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 vap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1170000" y="1717560"/>
            <a:ext cx="7974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gas do scientists think was absent fro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early atmosph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5"/>
          <p:cNvSpPr/>
          <p:nvPr/>
        </p:nvSpPr>
        <p:spPr>
          <a:xfrm>
            <a:off x="1447920" y="403848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DQ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508040" y="2849400"/>
            <a:ext cx="397836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mbr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oni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iass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ozo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1170000" y="1717560"/>
            <a:ext cx="77439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 which period did the first land vertebra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ppea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15"/>
          <p:cNvSpPr/>
          <p:nvPr/>
        </p:nvSpPr>
        <p:spPr>
          <a:xfrm>
            <a:off x="1442880" y="35020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Land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90560" y="2021040"/>
            <a:ext cx="8734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arth formed about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790560" y="273204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ravity pulled the densest elements to the center of the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90560" y="391968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about 500 million years, a solid crust formed on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1508040" y="2844720"/>
            <a:ext cx="43592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ca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1170000" y="1717560"/>
            <a:ext cx="82026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 which type of rock do paleontologists 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for fossil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1461960" y="404496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1508040" y="3306600"/>
            <a:ext cx="481644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lute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ological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dimentary da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1170000" y="1717560"/>
            <a:ext cx="78976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dating method determines the age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rocks by comparing them to rocks in oth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lay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5"/>
          <p:cNvSpPr/>
          <p:nvPr/>
        </p:nvSpPr>
        <p:spPr>
          <a:xfrm>
            <a:off x="1461960" y="450684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1508040" y="3297240"/>
            <a:ext cx="557856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gla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volcanic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eorit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1170000" y="1717560"/>
            <a:ext cx="80503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geological change during the Mesozo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ra had the greatest effect in shaping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urse of evolu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5"/>
          <p:cNvSpPr/>
          <p:nvPr/>
        </p:nvSpPr>
        <p:spPr>
          <a:xfrm>
            <a:off x="1433520" y="341460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508040" y="3306600"/>
            <a:ext cx="588348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gen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gene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ordial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taneous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1170000" y="1717560"/>
            <a:ext cx="82026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t one time people believed that mold grow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n a piece of cheese was created by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heese. This is the idea of 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9"/>
          <p:cNvSpPr/>
          <p:nvPr/>
        </p:nvSpPr>
        <p:spPr>
          <a:xfrm>
            <a:off x="1447920" y="506880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0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1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1508040" y="3209760"/>
            <a:ext cx="794088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digested by the host c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became an organelle in the host c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became a harmful parasite in the host c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spcAft>
                <a:spcPts val="326"/>
              </a:spcAft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was removed from the host cell by exocyto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"/>
          <p:cNvSpPr/>
          <p:nvPr/>
        </p:nvSpPr>
        <p:spPr>
          <a:xfrm>
            <a:off x="1170000" y="1717560"/>
            <a:ext cx="7974000" cy="13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ccording to the endosymbiont theory, what m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happened to a prokaryotic cell that ent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host c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1428840" y="3606840"/>
            <a:ext cx="61092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7391160" y="4038480"/>
            <a:ext cx="14396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Q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-14400" y="15840"/>
            <a:ext cx="1524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508040" y="3297240"/>
            <a:ext cx="314028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oropl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1170000" y="1717560"/>
            <a:ext cx="85834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n ancient prokaryote containing photosynthe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igments that was engulfed by a host cell m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ave become a 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1442880" y="34066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85880" y="1311120"/>
            <a:ext cx="8434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90560" y="1795320"/>
            <a:ext cx="888696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ases that likely made up the atmosphere are those that were expelled by volcan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1285920" y="270972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vapor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297080" y="319572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dioxide 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1297080" y="368136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lfur dioxide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305000" y="4167360"/>
            <a:ext cx="7095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rbon monoxide (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1297080" y="466236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gen sulfide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1305000" y="5148360"/>
            <a:ext cx="7095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gen cyanide (H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1305000" y="5634000"/>
            <a:ext cx="7095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trogen (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1314360" y="6119640"/>
            <a:ext cx="7096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ydrogen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lue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90560" y="201456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foss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90560" y="3200400"/>
            <a:ext cx="8505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rganisms decompose before they have a chance to become fossi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conceptsinmotion"/>
          <p:cNvPicPr/>
          <p:nvPr/>
        </p:nvPicPr>
        <p:blipFill>
          <a:blip r:embed="rId1"/>
          <a:stretch/>
        </p:blipFill>
        <p:spPr>
          <a:xfrm>
            <a:off x="7513560" y="522360"/>
            <a:ext cx="24256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1" descr="MAC OSX sm button"/>
          <p:cNvPicPr/>
          <p:nvPr/>
        </p:nvPicPr>
        <p:blipFill>
          <a:blip r:embed="rId2"/>
          <a:stretch/>
        </p:blipFill>
        <p:spPr>
          <a:xfrm>
            <a:off x="8750160" y="5803920"/>
            <a:ext cx="1054080" cy="5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cmFlash522"/>
          <p:cNvGraphicFramePr/>
          <p:nvPr/>
        </p:nvGraphicFramePr>
        <p:xfrm>
          <a:off x="812880" y="1346040"/>
          <a:ext cx="7886520" cy="497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cmFlash5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880" y="1346040"/>
                    <a:ext cx="788652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Fossi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90560" y="2023920"/>
            <a:ext cx="8582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arly all fossils are formed in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90560" y="3224160"/>
            <a:ext cx="8886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ediments build up until they cover the organism’s rem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90560" y="4419720"/>
            <a:ext cx="8886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neral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h 14 im 5"/>
          <p:cNvPicPr/>
          <p:nvPr/>
        </p:nvPicPr>
        <p:blipFill>
          <a:blip r:embed="rId1"/>
          <a:stretch/>
        </p:blipFill>
        <p:spPr>
          <a:xfrm>
            <a:off x="576360" y="1025640"/>
            <a:ext cx="4800600" cy="5560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5619600" y="1311120"/>
            <a:ext cx="39211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Dating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5624640" y="2008080"/>
            <a:ext cx="4238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Relative d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method used to determine the age of rock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07360" y="4572000"/>
            <a:ext cx="4096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9"/>
          <p:cNvSpPr/>
          <p:nvPr/>
        </p:nvSpPr>
        <p:spPr>
          <a:xfrm>
            <a:off x="790560" y="2009880"/>
            <a:ext cx="4086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85880" y="1311120"/>
            <a:ext cx="4471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558800" y="-14400"/>
            <a:ext cx="24372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Histor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ch 14 im 6"/>
          <p:cNvPicPr/>
          <p:nvPr/>
        </p:nvPicPr>
        <p:blipFill>
          <a:blip r:embed="rId1"/>
          <a:stretch/>
        </p:blipFill>
        <p:spPr>
          <a:xfrm>
            <a:off x="5243400" y="1152360"/>
            <a:ext cx="4648320" cy="401796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 13"/>
          <p:cNvGrpSpPr/>
          <p:nvPr/>
        </p:nvGrpSpPr>
        <p:grpSpPr>
          <a:xfrm>
            <a:off x="790560" y="4167360"/>
            <a:ext cx="8986680" cy="2057760"/>
            <a:chOff x="790560" y="4167360"/>
            <a:chExt cx="8986680" cy="2057760"/>
          </a:xfrm>
        </p:grpSpPr>
        <p:sp>
          <p:nvSpPr>
            <p:cNvPr id="219" name="Text Box 10"/>
            <p:cNvSpPr/>
            <p:nvPr/>
          </p:nvSpPr>
          <p:spPr>
            <a:xfrm>
              <a:off x="790560" y="4167360"/>
              <a:ext cx="4162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760" bIns="5076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dioactive isotopes that can b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2"/>
            <p:cNvSpPr/>
            <p:nvPr/>
          </p:nvSpPr>
          <p:spPr>
            <a:xfrm>
              <a:off x="1042920" y="5148360"/>
              <a:ext cx="87343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160" rIns="101160" tIns="50760" bIns="5076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sed for radiometric dating are found only in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Fossil Evidenc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-14400" y="15840"/>
            <a:ext cx="152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3-10-21T15:24:32Z</dcterms:modified>
  <cp:revision>545</cp:revision>
  <dc:subject/>
  <dc:title>Glencoe Biology</dc:title>
</cp:coreProperties>
</file>